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5B79-184B-4FCD-BA31-B546E2DF3A6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88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投影片編號版面配置區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7A45-A46F-4F07-B5DE-2D3FFD75CE3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ACA2-7298-414D-982F-C60E961F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582-B7EF-4C76-BD64-A1A4B6A9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F3D-F126-4634-B2B0-24FC0B3B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767A-B816-4405-A252-A811C072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74400" y="-141480"/>
            <a:ext cx="65739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FA9F-DB5F-44C9-8E92-F42A3AE1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B78E-73E5-487D-8900-250C6B78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8A6-529C-418B-8EFC-A126547C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EFFF-30F9-46BB-AD8B-4D3E8DB5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174400" y="-141480"/>
            <a:ext cx="657396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0B7-E765-4549-B0FA-25F05F79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381-2E7B-43E0-B097-9125ECB1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E04-7B0B-4134-88D5-49870F09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0CA-684C-4C71-A627-51A4F08D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0" y="6215040"/>
            <a:ext cx="5724360" cy="642960"/>
          </a:xfrm>
          <a:prstGeom prst="rect">
            <a:avLst/>
          </a:prstGeom>
          <a:gradFill rotWithShape="0">
            <a:gsLst>
              <a:gs pos="0">
                <a:srgbClr val="ffffff">
                  <a:alpha val="48235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pic5"/>
          <p:cNvPicPr/>
          <p:nvPr/>
        </p:nvPicPr>
        <p:blipFill>
          <a:blip r:embed="rId2"/>
          <a:stretch/>
        </p:blipFill>
        <p:spPr>
          <a:xfrm>
            <a:off x="0" y="6429240"/>
            <a:ext cx="2928960" cy="42876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0"/>
            <a:ext cx="9144000" cy="642960"/>
          </a:xfrm>
          <a:prstGeom prst="rect">
            <a:avLst/>
          </a:prstGeom>
          <a:solidFill>
            <a:srgbClr val="009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7" descr="pic3"/>
          <p:cNvPicPr/>
          <p:nvPr/>
        </p:nvPicPr>
        <p:blipFill>
          <a:blip r:embed="rId3"/>
          <a:srcRect l="0" t="5717" r="37404" b="77551"/>
          <a:stretch/>
        </p:blipFill>
        <p:spPr>
          <a:xfrm>
            <a:off x="8075520" y="0"/>
            <a:ext cx="1068480" cy="6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-36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77164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027640" y="6453360"/>
            <a:ext cx="10191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FD70-3BA2-48D6-82EF-B60B80AFE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8"/>
          <p:cNvGrpSpPr/>
          <p:nvPr/>
        </p:nvGrpSpPr>
        <p:grpSpPr>
          <a:xfrm>
            <a:off x="47520" y="0"/>
            <a:ext cx="2088720" cy="642960"/>
            <a:chOff x="47520" y="0"/>
            <a:chExt cx="2088720" cy="642960"/>
          </a:xfrm>
        </p:grpSpPr>
        <p:pic>
          <p:nvPicPr>
            <p:cNvPr id="10" name="Picture 9" descr="whtc"/>
            <p:cNvPicPr/>
            <p:nvPr/>
          </p:nvPicPr>
          <p:blipFill>
            <a:blip r:embed="rId4"/>
            <a:stretch/>
          </p:blipFill>
          <p:spPr>
            <a:xfrm>
              <a:off x="904320" y="26280"/>
              <a:ext cx="1231920" cy="5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10" descr="htc_light"/>
            <p:cNvPicPr/>
            <p:nvPr/>
          </p:nvPicPr>
          <p:blipFill>
            <a:blip r:embed="rId5"/>
            <a:stretch/>
          </p:blipFill>
          <p:spPr>
            <a:xfrm>
              <a:off x="47520" y="0"/>
              <a:ext cx="856800" cy="64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2" descr="2009"/>
          <p:cNvPicPr/>
          <p:nvPr/>
        </p:nvPicPr>
        <p:blipFill>
          <a:blip r:embed="rId2"/>
          <a:srcRect l="16738" t="0" r="0" b="0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6" descr="1"/>
          <p:cNvPicPr/>
          <p:nvPr/>
        </p:nvPicPr>
        <p:blipFill>
          <a:blip r:embed="rId3"/>
          <a:stretch/>
        </p:blipFill>
        <p:spPr>
          <a:xfrm>
            <a:off x="177840" y="59500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1"/>
          <p:cNvPicPr/>
          <p:nvPr/>
        </p:nvPicPr>
        <p:blipFill>
          <a:blip r:embed="rId4"/>
          <a:stretch/>
        </p:blipFill>
        <p:spPr>
          <a:xfrm>
            <a:off x="1114560" y="595008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1"/>
          <p:cNvPicPr/>
          <p:nvPr/>
        </p:nvPicPr>
        <p:blipFill>
          <a:blip r:embed="rId5"/>
          <a:stretch/>
        </p:blipFill>
        <p:spPr>
          <a:xfrm>
            <a:off x="2049480" y="59500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1"/>
          <p:cNvPicPr/>
          <p:nvPr/>
        </p:nvPicPr>
        <p:blipFill>
          <a:blip r:embed="rId6"/>
          <a:stretch/>
        </p:blipFill>
        <p:spPr>
          <a:xfrm>
            <a:off x="2986200" y="5950080"/>
            <a:ext cx="793800" cy="793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4400" y="-141480"/>
            <a:ext cx="6573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2071800"/>
            <a:ext cx="807264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Arial"/>
              </a:rPr>
              <a:t>股票代號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:6208</a:t>
            </a:r>
            <a:br>
              <a:rPr sz="6000"/>
            </a:br>
            <a:r>
              <a:rPr b="1" lang="zh-TW" sz="6000" spc="-1" strike="noStrike">
                <a:solidFill>
                  <a:srgbClr val="ff0000"/>
                </a:solidFill>
                <a:latin typeface="Arial"/>
              </a:rPr>
              <a:t>日揚科技股份有限公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HTC-01"/>
          <p:cNvPicPr/>
          <p:nvPr/>
        </p:nvPicPr>
        <p:blipFill>
          <a:blip r:embed="rId1"/>
          <a:stretch/>
        </p:blipFill>
        <p:spPr>
          <a:xfrm>
            <a:off x="214200" y="1285920"/>
            <a:ext cx="2286000" cy="771480"/>
          </a:xfrm>
          <a:prstGeom prst="rect">
            <a:avLst/>
          </a:prstGeom>
          <a:ln w="0">
            <a:noFill/>
          </a:ln>
        </p:spPr>
      </p:pic>
      <p:sp>
        <p:nvSpPr>
          <p:cNvPr id="100" name="文字方塊 5"/>
          <p:cNvSpPr/>
          <p:nvPr/>
        </p:nvSpPr>
        <p:spPr>
          <a:xfrm>
            <a:off x="7286760" y="62150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 5 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85840" y="928800"/>
          <a:ext cx="8715240" cy="5735520"/>
        </p:xfrm>
        <a:graphic>
          <a:graphicData uri="http://schemas.openxmlformats.org/drawingml/2006/table">
            <a:tbl>
              <a:tblPr/>
              <a:tblGrid>
                <a:gridCol w="2349360"/>
                <a:gridCol w="1579680"/>
                <a:gridCol w="642960"/>
                <a:gridCol w="186984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9,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0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8,5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9,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6,7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,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3,7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5,9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8,8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415,4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62,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2,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6,8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0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0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矩形 3"/>
          <p:cNvSpPr/>
          <p:nvPr/>
        </p:nvSpPr>
        <p:spPr>
          <a:xfrm>
            <a:off x="4006440" y="0"/>
            <a:ext cx="19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簡明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5840" y="928800"/>
          <a:ext cx="8501040" cy="507996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24,4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25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,48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增資員工認股選擇權酬勞成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,7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9,9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64,74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,93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7,68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29,18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短期借款及應付短期票券減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46,270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,91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增資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0,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增加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59,99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49,76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8" name="矩形 3"/>
          <p:cNvSpPr/>
          <p:nvPr/>
        </p:nvSpPr>
        <p:spPr>
          <a:xfrm>
            <a:off x="3994560" y="0"/>
            <a:ext cx="22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64260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日揚</a:t>
            </a:r>
            <a:r>
              <a:rPr b="0" lang="en-US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歷年財務比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14200" y="1428840"/>
          <a:ext cx="8748720" cy="4714920"/>
        </p:xfrm>
        <a:graphic>
          <a:graphicData uri="http://schemas.openxmlformats.org/drawingml/2006/table">
            <a:tbl>
              <a:tblPr/>
              <a:tblGrid>
                <a:gridCol w="87487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     2002      2003     2004     2005     2006     2007     2008      2009      2010Q1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性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77%     259%    295%    269%    181%    160%    122%    111%    127%      226%  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速動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77%     162%    193%    164%    128%    113%      79%      63%     84%      142%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管理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週轉率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.20      3.02      2.89      3.62      4.56      3.00      6.36       3.84      2.76       3.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資產週轉率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66      0.80      0.77      0.95      0.88      0.77      0.77       0.67      0.44       0.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管理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比率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8.7%    25.8%   41.0%   41.3%   39.4%   40.6%   42.0%  41.9%    36.3%    21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息保障倍數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0.70     69.49     22.59    36.68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4.99    54.12    24.76     9.38     (3.58)      16.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獲利性比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毛利率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32.8%   34.5%   34.5%   33.0%    28.5%   29.3%   27.9%   28.8%   24.6%     3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資產報酬率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7.6%   14.5%   14.3%   15.4%    12.8%   10.7%    5.5%     3.4%    (1.9%)      4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報酬率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9.6%   18.8%   21.1%   25.5%    20.8%   17.5%    8.9%     5.2%    (3.9%)    5.3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8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TW" sz="16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每股盈餘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.82     1.84       2.08     2.79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2.38       2.37      1.12      0.72      (0.51)       0.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124000" y="4076640"/>
            <a:ext cx="4876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http://www.high-light.com.t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1987560" y="2924280"/>
            <a:ext cx="5105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aae8f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aae8f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4200" y="64260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ts val="3362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            </a:t>
            </a:r>
            <a:r>
              <a:rPr b="1" lang="zh-TW" sz="3600" spc="-1" strike="noStrike">
                <a:solidFill>
                  <a:srgbClr val="ff0000"/>
                </a:solidFill>
                <a:latin typeface="標楷體"/>
                <a:ea typeface="標楷體"/>
              </a:rPr>
              <a:t>財務資訊摘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新細明體"/>
              </a:rPr>
              <a:t>▓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09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因金融風暴影響，年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8.15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合併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10.66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首度出現小額虧損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EPS-0.51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▓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1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Q1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營收為</a:t>
            </a:r>
            <a:r>
              <a:rPr b="1" lang="en-US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NT$2.35</a:t>
            </a:r>
            <a:r>
              <a:rPr b="1" lang="zh-TW" sz="3200" spc="-1" strike="noStrike">
                <a:solidFill>
                  <a:srgbClr val="ff0000"/>
                </a:solidFill>
                <a:latin typeface="標楷體"/>
                <a:ea typeface="標楷體"/>
              </a:rPr>
              <a:t>億元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，較去年同期略為減少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15.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44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因產業逐漸復甦及主要客戶陸續提高資本支出計劃， </a:t>
            </a: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2010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年業績展望樂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14,6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356,6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14,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68,6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,3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8,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1,3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9,3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,9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8,6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6,80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7,52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7,83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1,1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6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,9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2,1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3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5,88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9,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7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0.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度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85840" y="928800"/>
          <a:ext cx="8715240" cy="5381640"/>
        </p:xfrm>
        <a:graphic>
          <a:graphicData uri="http://schemas.openxmlformats.org/drawingml/2006/table">
            <a:tbl>
              <a:tblPr/>
              <a:tblGrid>
                <a:gridCol w="2349360"/>
                <a:gridCol w="1363680"/>
                <a:gridCol w="644400"/>
                <a:gridCol w="208440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16,2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8,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2,7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54,8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,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8,3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66,4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81,4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69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65,9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5,5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1,3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35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35,5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矩形 3"/>
          <p:cNvSpPr/>
          <p:nvPr/>
        </p:nvSpPr>
        <p:spPr>
          <a:xfrm>
            <a:off x="3223800" y="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度簡明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928800"/>
          <a:ext cx="8501040" cy="539748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190,35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5,888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4,39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按權益法認列之投資損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3,4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8,4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281,63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,63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73,99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20,16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舉借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0,0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,479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贖回公司債價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28,51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理財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3,83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減少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11,439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1,20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89,76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0" name="矩形 3"/>
          <p:cNvSpPr/>
          <p:nvPr/>
        </p:nvSpPr>
        <p:spPr>
          <a:xfrm>
            <a:off x="3344040" y="0"/>
            <a:ext cx="354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度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66,3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813,8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09,7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311,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56,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2,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7,8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8,5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1,21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4,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5,6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56,38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6,84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7,7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5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1,9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,5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4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總純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純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4,89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,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4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0.5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度合併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400" y="642960"/>
            <a:ext cx="87152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14200" y="949320"/>
          <a:ext cx="8715600" cy="5857920"/>
        </p:xfrm>
        <a:graphic>
          <a:graphicData uri="http://schemas.openxmlformats.org/drawingml/2006/table">
            <a:tbl>
              <a:tblPr/>
              <a:tblGrid>
                <a:gridCol w="2349720"/>
                <a:gridCol w="1650960"/>
                <a:gridCol w="642960"/>
                <a:gridCol w="1798560"/>
                <a:gridCol w="1630440"/>
                <a:gridCol w="642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股東權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   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現金及約當現金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4,6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129,6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應收票據及帳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3,8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長期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4,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存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78,9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負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3,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43,9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流動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81,0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238,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投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8,2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固定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076,5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無形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,9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資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4,2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產總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482,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負債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股東權益總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482,0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矩形 3"/>
          <p:cNvSpPr/>
          <p:nvPr/>
        </p:nvSpPr>
        <p:spPr>
          <a:xfrm>
            <a:off x="3010680" y="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年度簡明合併資產負債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　　　　　　　　　　　　　　　　　　　　　　　　　　　　　　　　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5840" y="928800"/>
          <a:ext cx="8501040" cy="5715000"/>
        </p:xfrm>
        <a:graphic>
          <a:graphicData uri="http://schemas.openxmlformats.org/drawingml/2006/table">
            <a:tbl>
              <a:tblPr/>
              <a:tblGrid>
                <a:gridCol w="5172120"/>
                <a:gridCol w="3328920"/>
              </a:tblGrid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營業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15,5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合併總純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74,898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折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9,33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1,08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投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88,03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資本支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7,72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投資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310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融資活動之現金流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76,81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舉借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9,56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償還長期借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66,88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贖回公司債價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28,51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其他理財活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90,97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對子公司喪失控制能力前現金流量淨影響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8,59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匯率影響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4,27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現金淨減少金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(102,186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年初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6,8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年底現金餘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ts val="16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204,64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9" name="矩形 3"/>
          <p:cNvSpPr/>
          <p:nvPr/>
        </p:nvSpPr>
        <p:spPr>
          <a:xfrm>
            <a:off x="3100680" y="0"/>
            <a:ext cx="40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09</a:t>
            </a:r>
            <a:r>
              <a:rPr b="1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年度合併現金流量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714240"/>
            <a:ext cx="9144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單位：新台幣仟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85840" y="1000080"/>
          <a:ext cx="8643960" cy="5429160"/>
        </p:xfrm>
        <a:graphic>
          <a:graphicData uri="http://schemas.openxmlformats.org/drawingml/2006/table">
            <a:tbl>
              <a:tblPr/>
              <a:tblGrid>
                <a:gridCol w="2833560"/>
                <a:gridCol w="1700280"/>
                <a:gridCol w="779400"/>
                <a:gridCol w="1673280"/>
                <a:gridCol w="736560"/>
                <a:gridCol w="920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科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10Q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09Q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YoY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35,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7,3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成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5,2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6,9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2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毛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9,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0,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1,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7,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 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淨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9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,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營業外收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88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稅前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,8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,3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所得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利益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費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,5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1,10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本期淨利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淨損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,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,4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矩形 5"/>
          <p:cNvSpPr/>
          <p:nvPr/>
        </p:nvSpPr>
        <p:spPr>
          <a:xfrm>
            <a:off x="2357280" y="0"/>
            <a:ext cx="518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日揚</a:t>
            </a: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2010</a:t>
            </a:r>
            <a:r>
              <a:rPr b="1" lang="zh-TW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年第一季損益比較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5:59:41Z</dcterms:created>
  <dc:creator>YELIN</dc:creator>
  <dc:description/>
  <dc:language>en-US</dc:language>
  <cp:lastModifiedBy>yelin</cp:lastModifiedBy>
  <dcterms:modified xsi:type="dcterms:W3CDTF">2010-05-05T08:37:54Z</dcterms:modified>
  <cp:revision>266</cp:revision>
  <dc:subject/>
  <dc:title>HTC簡報範本(横式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文件</vt:lpwstr>
  </property>
</Properties>
</file>